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DB98C-E06D-45CF-94FB-713AE8C03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5177F-0AD3-4D43-9DB7-C811707A7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08F28-0174-4E58-B492-06E285E81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219B7-8E91-48FD-888C-A4A44AE71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FBF96-EDB2-45DC-AF43-F786AF2F9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99570-2BB4-4FE4-9C7E-4F268711E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D507A-0779-4D00-93D0-B1DF354F2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CB725-8E37-40A9-9267-A55340A72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DCFB7-A263-4624-9337-F77D1C4A6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83227-2D47-4D2C-AB56-4F1D7AE7A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5F9F4-6277-44BE-9E8F-31E3F168B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545D4-B609-4D6B-9DFA-D626C85CD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E9B40-795D-4FF7-AE6C-50C293F24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2ACDB-E0C5-49C9-9107-BAB9BC03B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95ED8-B793-4DC4-9F52-1CF82EA1C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507C5-FF79-4552-9034-5E4BC3D70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41558-D4E3-4BC5-8695-085DC99AA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2777C-7CD0-4FF2-BEC0-48C925AAB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C8161-9E55-4BEA-8D96-54081E73A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84030-8ED2-4B63-B806-5DD0A9605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20DEF-34F6-44BC-A06E-ABAD4C1B8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9557F-B1D8-496E-AE1E-D3708EF44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F0F49-BF82-4C33-864A-7E9B816D1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FA099-4408-439F-8F45-CA5839640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2A0D6-1237-4F85-8736-AFE9D61C3E3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AD911-C62F-4280-AA89-71473841DD7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2608200" y="690480"/>
            <a:ext cx="1843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602080" y="546120"/>
            <a:ext cx="357624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Romance fronteriz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Abenámar y el rey Don Juan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-¡Abenámar, Abenámar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moro de la morería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el día que tú nacis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grandes señales había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estaba la mar en calma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la luna estaba crecida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moro que en tal ssigno na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no debe decir mentir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-No te la diré, señor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aunque me cueste la vida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porque soy hijo de un mor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y una cristiana cautiva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siendo yo niño y muchach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mi madre me lo decía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que mentira no dijese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2176560" y="112248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463840" y="692280"/>
            <a:ext cx="3351240" cy="64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que era grande villanía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por tanto, pregunta, rey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que la verdad te dirí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-Yo te agradezco, Abenámar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aquesta tu cortesí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¿Qué castillos son aquello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¡Altos son y relucían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-El Alhambra era, señor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y la otra, los alixares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labrados a maravill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El moro que los labrab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cien doblas ganaba al día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y el día que no los labr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otras tanta se perdía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desque los tuvo labrad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el rey le quitó la vida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porque no labre otros ta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al rey del Andalucí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2745720" y="690480"/>
            <a:ext cx="356400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El otro es Torres Bermejas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castillo de gran valía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el otro Generalife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huerta que par no tenía-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Allí hablara el rey don Juan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bien oiréis lo que decía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-Si tú quisieras, Granada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contigo me casaría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daréte en arras y do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a Córdoba y a Sevilla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-Casada soy, rey don Juan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casad soy, que no vïuda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el moro que a mí me tie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muy grande bien me quería-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Hablara allí el rey don Juan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Estas palabras decía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-Echenme  acá mis lombardas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2818440" y="1122480"/>
            <a:ext cx="32011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doña Sancha y doña Elvira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tiraremos a lo alto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lo bajo ella se daría-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El combate era tan fuer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que grande temor ponía”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8T01:08:43Z</dcterms:created>
  <dc:creator> </dc:creator>
  <dc:description/>
  <dc:language>en-US</dc:language>
  <cp:lastModifiedBy> </cp:lastModifiedBy>
  <dcterms:modified xsi:type="dcterms:W3CDTF">2007-09-28T01:32:39Z</dcterms:modified>
  <cp:revision>2</cp:revision>
  <dc:subject/>
  <dc:title>Diapositiva 1</dc:title>
</cp:coreProperties>
</file>